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DFF-3C5D-4734-95A3-A4F5F48A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C13-3B50-4E8C-9835-B4A1F7C1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1651-7A5A-4BE8-B29D-CAC2EC34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67E5-272C-497B-94A0-EFBB192E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01EC-028D-4EDC-AE73-BF61E8F8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EA9F-93F5-436A-8FBA-1929F185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2FCA-0E83-4D97-BC24-7BAC405A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3369-C078-4819-B1C7-13FDEFA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532D-BB3A-4BC8-9EF5-BDDC3710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2008-6509-4B01-A69F-DF648B0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2A33-4955-43F8-9A6C-A9F1466D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4AA-D5BA-459C-B4C3-7FFDAE88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FD08-3130-4675-A13A-1E722E3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6050-1908-4BAC-8DF1-F119615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430E-8D84-4190-B4A5-D97A9AE9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27BC-7F2D-4198-BCBB-3E564A07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953B-3648-41FB-B62A-21C912E4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B69-F87A-4C90-B4A7-885C346E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E47-A713-46B2-91F5-0383BA62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A8F-5A6B-40C4-80B6-B969F6CC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3FE-57AE-4765-ABCF-F5081EB6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CA0-839D-45CC-9B37-514094AB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07B-3871-4447-9E56-8FED2841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1F7-59DC-4650-84B0-2961DACD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6D32-C569-4360-A6C3-645287C93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D21-CCDA-41AC-A428-842C439ECA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IZARD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ICHAE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1882800" cy="68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7920" y="2535120"/>
            <a:ext cx="1566720" cy="1787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58000" y="2286000"/>
            <a:ext cx="1074600" cy="1793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57600" y="5029200"/>
            <a:ext cx="18050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 YOU LIKE LIZARDS?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 HOPE YOU D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3886200"/>
            <a:ext cx="3657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D YOU KNOW LIZARDS  ARE HATCHED FROM  EGG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ZARD eggs are  really  really delic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rot="15867000">
            <a:off x="3589920" y="1679760"/>
            <a:ext cx="502452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 you  know there  are 3,500 species  of  lizar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 you  know  an  iguana  is a  lizar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uanas  are  special  because they are  sma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 rot="842400">
            <a:off x="3244320" y="4641840"/>
            <a:ext cx="2221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id you  know  some lizards have horns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zards have small hor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 you know  lizards are found every wher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 are found in Pakist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14600" y="4495680"/>
            <a:ext cx="3657600" cy="16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zards  are really really  coo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3956040" cy="93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562720" y="4648320"/>
            <a:ext cx="2881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08:20Z</dcterms:modified>
  <cp:revision>5</cp:revision>
  <dc:subject/>
  <dc:title>Animal Name</dc:title>
</cp:coreProperties>
</file>